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EC2-0DC6-44BB-91C4-99EADDBE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34D-DF9B-4485-B009-7667AFD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2D2-EBAE-4D7E-B09E-9976C830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94B-2EC1-42BE-A817-5FEB3C3D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FE3-0FB3-413C-A773-6237184A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DE3-4BB0-48A5-9807-4695B7B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47-B18F-425D-965B-025DAD55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036-B355-46F4-AA3F-B18FA31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488-1ADA-4719-B444-69D432DC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22F-1B7E-4029-AF02-CC377DE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A16-265C-466E-A463-82DB626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634-0D8A-4E6B-922A-E1BED0E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D06-B172-4EE7-B329-32984EB32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Formação de Filme de Látex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vaporação da água e empacotamento das partí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agem homogê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agem ir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rtical: convecção é maior do que a dif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orizontal: pressão cap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eito da velocidade de secagem no empacotam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úbico (FCC) ou hexagonal de face centrada (FCC):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0.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andômico: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0.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3819600" cy="2552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981080" y="-152280"/>
            <a:ext cx="1828800" cy="7035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rfo9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 empacotamento é influenciado pelo fato das partículas possuirem ou não tempo de se empacotar. Logo para altas velocidades de secagem há empacotamento randômico. Para velocidades baixas pode se formar empacotameto cúbico e hexagonal de face c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tipo de secagem assim como a velocidade podem influenciar o empacotamento das part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3240" y="63244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ou H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8680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ô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333-736E-4E6B-8C35-657E64E4E2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agem ir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tes de secagem lateral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a, J.C.H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. Sci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t A2, 7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gião 1: dispersão de látex tú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gião 2: partículas floculadas parcialmente túr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gião 3: filme seco trans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43200" y="2057400"/>
            <a:ext cx="2741400" cy="1814400"/>
            <a:chOff x="2743200" y="2057400"/>
            <a:chExt cx="2741400" cy="18144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20751" t="30677" r="53254" b="46346"/>
            <a:stretch/>
          </p:blipFill>
          <p:spPr>
            <a:xfrm>
              <a:off x="2743200" y="2057400"/>
              <a:ext cx="274140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887280" y="286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18080" y="281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5160" y="266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92F-C5A1-4FA4-A2B6-FDE298641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621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57146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J. M. Salamanca, E. Ciampi, D. A. Faux, P. M. Glover, P. J. McDonald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. F. Routh, A. C. I. A. Peters, R. Satguru, and J. L. Keddie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Lateral Drying in Thick Films of Waterborne Colloida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articl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2001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17,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3202</a:t>
            </a:r>
            <a:r>
              <a:rPr b="0" lang="pt-BR" sz="16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32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848040" cy="1981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3829320" cy="2571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21411" t="0" r="42582" b="45336"/>
          <a:stretch/>
        </p:blipFill>
        <p:spPr>
          <a:xfrm>
            <a:off x="990720" y="3733920"/>
            <a:ext cx="2819160" cy="1447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914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agem lateral ir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5A5-1CD0-448D-8770-9404CCEED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974520"/>
            <a:ext cx="80773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cagem 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o de Routh &amp; Russel (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h, A.F.; Russel, W.B.;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ICHE J.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98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44, 2088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ão capilar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versus pressão nas partículas empacotadas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 em aberto: recessão da frente de sec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41760" cy="8427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2771640" y="2514600"/>
            <a:ext cx="3848040" cy="1295280"/>
            <a:chOff x="2771640" y="2514600"/>
            <a:chExt cx="3848040" cy="12952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rcRect l="0" t="0" r="0" b="34624"/>
            <a:stretch/>
          </p:blipFill>
          <p:spPr>
            <a:xfrm>
              <a:off x="2771640" y="2514600"/>
              <a:ext cx="38480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571560" y="309096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0800" y="2717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677480" y="309096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5480" y="2717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000" y="5589720"/>
            <a:ext cx="50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agem irregular: minimização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agem homogênea: maximização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987720"/>
            <a:ext cx="43290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pressão capilar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normalizada p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são nas partículas empacotadas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viscosidade na taxa de cisalhamento n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ensão superficial do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: velocidade de evaporação da á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: raio das part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viscosidade do meio contín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fração volumétrica de sólidos na região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partículas empacot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F8C-3D5F-46C8-9F7D-099EB634D0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Secagem ver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5973480"/>
            <a:ext cx="822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31f20"/>
                </a:solidFill>
                <a:latin typeface="MacmillanRoman"/>
              </a:rPr>
              <a:t>A. F. Routh</a:t>
            </a:r>
            <a:r>
              <a:rPr b="0" i="1" lang="pt-BR" sz="1600" spc="-1" strike="noStrike">
                <a:solidFill>
                  <a:srgbClr val="231f20"/>
                </a:solidFill>
                <a:latin typeface="CMSY9"/>
              </a:rPr>
              <a:t>.</a:t>
            </a:r>
            <a:r>
              <a:rPr b="0" lang="pt-BR" sz="1600" spc="-1" strike="noStrike">
                <a:solidFill>
                  <a:srgbClr val="231f20"/>
                </a:solidFill>
                <a:latin typeface="MacmillanRoman"/>
              </a:rPr>
              <a:t>, W. B. Zimmerman, Distribution of particles during solvent evaporation from films, Chemical Engineering Science 59 (2004) 2961 – 2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169524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2971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Peclet (Pe): controla a distribuição vertical das partículas no fil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85760" y="3521160"/>
            <a:ext cx="2038320" cy="875880"/>
            <a:chOff x="1085760" y="3521160"/>
            <a:chExt cx="2038320" cy="875880"/>
          </a:xfrm>
        </p:grpSpPr>
        <p:sp>
          <p:nvSpPr>
            <p:cNvPr id="155" name=""/>
            <p:cNvSpPr/>
            <p:nvPr/>
          </p:nvSpPr>
          <p:spPr>
            <a:xfrm>
              <a:off x="1085760" y="3521160"/>
              <a:ext cx="19684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6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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           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6520" y="395100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3040" y="3749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962520" y="3521160"/>
            <a:ext cx="2301840" cy="875880"/>
            <a:chOff x="3962520" y="3521160"/>
            <a:chExt cx="2301840" cy="875880"/>
          </a:xfrm>
        </p:grpSpPr>
        <p:sp>
          <p:nvSpPr>
            <p:cNvPr id="159" name=""/>
            <p:cNvSpPr/>
            <p:nvPr/>
          </p:nvSpPr>
          <p:spPr>
            <a:xfrm>
              <a:off x="3962520" y="3521160"/>
              <a:ext cx="2301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K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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4160" y="393696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60680" y="3708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8520" y="3429000"/>
            <a:ext cx="2590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Do: coeficiente de difu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T: energia tér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: viscosidade do solv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: raio da part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: espessura do fil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: velocidade de evapo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640" y="4937040"/>
            <a:ext cx="807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&gt;1: convecção das partículas é maior que a dif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&lt;1: convecção das partículas é menor que a dif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05520" y="914400"/>
            <a:ext cx="2438280" cy="1447920"/>
            <a:chOff x="5105520" y="914400"/>
            <a:chExt cx="2438280" cy="144792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rcRect l="10892" t="0" r="25742" b="15557"/>
            <a:stretch/>
          </p:blipFill>
          <p:spPr>
            <a:xfrm>
              <a:off x="5105520" y="9144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75480" y="1425600"/>
              <a:ext cx="138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lid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91320" y="1752480"/>
              <a:ext cx="1384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id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-3429000" y="0"/>
            <a:ext cx="3292560" cy="2206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ocorre a frente de secagem vertical? Em que condições ela se propaga da superfície para o interior do fil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 que acontece quando Pe=1? Não há evaporaç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BBB-89E2-4457-8AFD-57B9F75D2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gem versus distribuição de surfac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ersões contendo surfactante e excesso de eletrólitos secam de forma ir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hué, D.; Wang, Y.; Lang, J.; Leung, O-M.; Goh, M.C.; Winnik, M.A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Polym. Sci., Part B: Polym. Phy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3, 112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95400" y="1981080"/>
            <a:ext cx="6915240" cy="1295280"/>
            <a:chOff x="995400" y="1981080"/>
            <a:chExt cx="6915240" cy="1295280"/>
          </a:xfrm>
        </p:grpSpPr>
        <p:sp>
          <p:nvSpPr>
            <p:cNvPr id="172" name=""/>
            <p:cNvSpPr/>
            <p:nvPr/>
          </p:nvSpPr>
          <p:spPr>
            <a:xfrm>
              <a:off x="995400" y="1981080"/>
              <a:ext cx="136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Exc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de surfact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7440" y="1981080"/>
              <a:ext cx="5623200" cy="1295280"/>
              <a:chOff x="2287440" y="1981080"/>
              <a:chExt cx="5623200" cy="1295280"/>
            </a:xfrm>
          </p:grpSpPr>
          <p:sp>
            <p:nvSpPr>
              <p:cNvPr id="174" name=""/>
              <p:cNvSpPr/>
              <p:nvPr/>
            </p:nvSpPr>
            <p:spPr>
              <a:xfrm>
                <a:off x="2592000" y="2286000"/>
                <a:ext cx="914040" cy="9144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6560" y="2590560"/>
                <a:ext cx="274320" cy="274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287440" y="2286000"/>
                <a:ext cx="68544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87280" y="274320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95800" y="233496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vag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6173280" y="1981080"/>
                <a:ext cx="1737360" cy="1295280"/>
                <a:chOff x="6173280" y="1981080"/>
                <a:chExt cx="1737360" cy="12952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173280" y="2361960"/>
                  <a:ext cx="914040" cy="91440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477840" y="2666880"/>
                  <a:ext cx="274320" cy="27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6630120" y="2285640"/>
                  <a:ext cx="68544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176600" y="1981080"/>
                  <a:ext cx="734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ra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4" name=""/>
          <p:cNvSpPr/>
          <p:nvPr/>
        </p:nvSpPr>
        <p:spPr>
          <a:xfrm>
            <a:off x="380880" y="4114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ção de surfactantes e espécies solúveis em água não é uniforme ao longo da espessura do fil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3482" t="0" r="41529" b="57350"/>
          <a:stretch/>
        </p:blipFill>
        <p:spPr>
          <a:xfrm>
            <a:off x="3962520" y="4952880"/>
            <a:ext cx="1371600" cy="1578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86200" y="5791320"/>
            <a:ext cx="1371600" cy="7596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81480" y="5638680"/>
            <a:ext cx="1524240" cy="152640"/>
          </a:xfrm>
          <a:prstGeom prst="line">
            <a:avLst/>
          </a:prstGeom>
          <a:ln w="3816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6440" y="53722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sso de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eletról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105520"/>
            <a:ext cx="3352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Mallegol, J.-P. Gorce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. Dupont, C. Jeynes, P. J. McDonald, 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L. Keddi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rigins and Effects of a Surfactant Excess near 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rface of Waterborne Acrylic Pressure-Sensiti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dhesi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002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18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478</a:t>
            </a:r>
            <a:r>
              <a:rPr b="0" lang="en-GB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48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E86-400F-4405-9A46-8BD9807AB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pacot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733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is técnicas: Espalhamento de luz, SAXS, TEM, A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cotamentos predomin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ômico (Balla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(Lind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dispersid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od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343400" y="3976560"/>
            <a:ext cx="2741760" cy="2728800"/>
            <a:chOff x="4343400" y="3976560"/>
            <a:chExt cx="2741760" cy="27288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343400" y="3976560"/>
              <a:ext cx="274176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07320" y="405252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FM-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191120" y="990720"/>
            <a:ext cx="3016080" cy="2860560"/>
            <a:chOff x="4191120" y="990720"/>
            <a:chExt cx="3016080" cy="28605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191120" y="990720"/>
              <a:ext cx="30160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497120" y="11080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TEM-PS/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364-FB30-4C48-8757-71CEDE1358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91404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o início da deformação ocorre preenchimento dos burac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anhado de um encolhimento do fil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.e. redução de 26 % do volum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rças com diferentes magnitudes ao longo do filme devido à presenç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água-substra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água-ar, polímero-substrat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dem gerar encolhimento anisotrópico resultand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trincas ou rachadur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fil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3880" y="1768320"/>
            <a:ext cx="6320520" cy="1206000"/>
            <a:chOff x="1523880" y="1768320"/>
            <a:chExt cx="6320520" cy="1206000"/>
          </a:xfrm>
        </p:grpSpPr>
        <p:grpSp>
          <p:nvGrpSpPr>
            <p:cNvPr id="201" name=""/>
            <p:cNvGrpSpPr/>
            <p:nvPr/>
          </p:nvGrpSpPr>
          <p:grpSpPr>
            <a:xfrm>
              <a:off x="1523880" y="2072880"/>
              <a:ext cx="2239560" cy="568080"/>
              <a:chOff x="1523880" y="2072880"/>
              <a:chExt cx="2239560" cy="568080"/>
            </a:xfrm>
          </p:grpSpPr>
          <p:sp>
            <p:nvSpPr>
              <p:cNvPr id="202" name=""/>
              <p:cNvSpPr/>
              <p:nvPr/>
            </p:nvSpPr>
            <p:spPr>
              <a:xfrm>
                <a:off x="152388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404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800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0852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9248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47212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4708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3104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3156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1552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9516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79480" y="245700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2388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2404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0800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0852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9248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7212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4708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3104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3156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1552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9516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79480" y="2256840"/>
                <a:ext cx="183960" cy="184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2388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2404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800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0852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9248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7212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708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3104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3156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1552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9516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79480" y="2072880"/>
                <a:ext cx="183960" cy="1839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555880" y="1977480"/>
              <a:ext cx="2288520" cy="744120"/>
              <a:chOff x="5555880" y="1977480"/>
              <a:chExt cx="2288520" cy="7441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555880" y="1977480"/>
                <a:ext cx="1860840" cy="731880"/>
                <a:chOff x="5555880" y="1977480"/>
                <a:chExt cx="1860840" cy="731880"/>
              </a:xfrm>
            </p:grpSpPr>
            <p:sp>
              <p:nvSpPr>
                <p:cNvPr id="240" name=""/>
                <p:cNvSpPr/>
                <p:nvPr/>
              </p:nvSpPr>
              <p:spPr>
                <a:xfrm rot="20901600">
                  <a:off x="5848920" y="1993680"/>
                  <a:ext cx="182160" cy="1828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901600">
                  <a:off x="5649840" y="242712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901600">
                  <a:off x="5802840" y="248760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901600">
                  <a:off x="5926320" y="237024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0901600">
                  <a:off x="5727240" y="212076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20901600">
                  <a:off x="5764320" y="229932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0901600">
                  <a:off x="5610960" y="223884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0901600">
                  <a:off x="5572440" y="2050560"/>
                  <a:ext cx="182160" cy="1828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901600">
                  <a:off x="5887440" y="218196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5995800" y="1989000"/>
                  <a:ext cx="569160" cy="709560"/>
                  <a:chOff x="5995800" y="1989000"/>
                  <a:chExt cx="569160" cy="7095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20901600">
                    <a:off x="6288480" y="200520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20901600">
                    <a:off x="6089400" y="243828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20901600">
                    <a:off x="6242760" y="249912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20901600">
                    <a:off x="6365880" y="238140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20901600">
                    <a:off x="6167160" y="213228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20901600">
                    <a:off x="6203880" y="231084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20901600">
                    <a:off x="6050520" y="225000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rot="20901600">
                    <a:off x="6012000" y="206208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20901600">
                    <a:off x="6327000" y="219312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rot="20901600">
                  <a:off x="6706800" y="200340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901600">
                  <a:off x="6507360" y="243684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901600">
                  <a:off x="6660720" y="249732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901600">
                  <a:off x="6784200" y="237960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901600">
                  <a:off x="6585120" y="213048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901600">
                  <a:off x="6622200" y="2309040"/>
                  <a:ext cx="182160" cy="1828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901600">
                  <a:off x="6468480" y="224856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01600">
                  <a:off x="6429960" y="206064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01600">
                  <a:off x="6745320" y="2191320"/>
                  <a:ext cx="18216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6847560" y="1999800"/>
                  <a:ext cx="569160" cy="709560"/>
                  <a:chOff x="6847560" y="1999800"/>
                  <a:chExt cx="569160" cy="7095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20901600">
                    <a:off x="7139880" y="201600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20901600">
                    <a:off x="6941160" y="244908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0901600">
                    <a:off x="7094160" y="2509920"/>
                    <a:ext cx="18252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20901600">
                    <a:off x="7217640" y="239220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20901600">
                    <a:off x="7018560" y="2143080"/>
                    <a:ext cx="18252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20901600">
                    <a:off x="7055280" y="2322000"/>
                    <a:ext cx="18252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20901600">
                    <a:off x="6902640" y="2260800"/>
                    <a:ext cx="182160" cy="1828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0901600">
                    <a:off x="6863760" y="2072880"/>
                    <a:ext cx="182160" cy="1825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20901600">
                    <a:off x="7179120" y="2203920"/>
                    <a:ext cx="182160" cy="1828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7274520" y="2012400"/>
                <a:ext cx="569880" cy="709200"/>
                <a:chOff x="7274520" y="2012400"/>
                <a:chExt cx="569880" cy="709200"/>
              </a:xfrm>
            </p:grpSpPr>
            <p:sp>
              <p:nvSpPr>
                <p:cNvPr id="279" name=""/>
                <p:cNvSpPr/>
                <p:nvPr/>
              </p:nvSpPr>
              <p:spPr>
                <a:xfrm rot="20901600">
                  <a:off x="7567560" y="2028600"/>
                  <a:ext cx="18252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0901600">
                  <a:off x="7368120" y="246204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20901600">
                  <a:off x="7521840" y="252252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20901600">
                  <a:off x="7644960" y="240480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0901600">
                  <a:off x="7446240" y="215532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20901600">
                  <a:off x="7482960" y="233424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20901600">
                  <a:off x="7329600" y="227376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901600">
                  <a:off x="7290720" y="2085840"/>
                  <a:ext cx="182520" cy="1825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0901600">
                  <a:off x="7606440" y="2216520"/>
                  <a:ext cx="182520" cy="182160"/>
                </a:xfrm>
                <a:prstGeom prst="hexagon">
                  <a:avLst>
                    <a:gd name="adj" fmla="val 25049"/>
                    <a:gd name="vf" fmla="val 11547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3886200" y="2225520"/>
              <a:ext cx="1676160" cy="228600"/>
            </a:xfrm>
            <a:prstGeom prst="rightArrow">
              <a:avLst>
                <a:gd name="adj1" fmla="val 50000"/>
                <a:gd name="adj2" fmla="val 18330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9880" y="17683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eenchimento dos bura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160" y="2454120"/>
              <a:ext cx="143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ução de 26 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o volu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638680" y="4479840"/>
            <a:ext cx="2438280" cy="944640"/>
            <a:chOff x="5638680" y="4479840"/>
            <a:chExt cx="2438280" cy="944640"/>
          </a:xfrm>
        </p:grpSpPr>
        <p:sp>
          <p:nvSpPr>
            <p:cNvPr id="292" name=""/>
            <p:cNvSpPr/>
            <p:nvPr/>
          </p:nvSpPr>
          <p:spPr>
            <a:xfrm>
              <a:off x="5638680" y="5043600"/>
              <a:ext cx="243828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3868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3704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56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1828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7864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5144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396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3268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520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9304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7556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48360" y="48610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868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3704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956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1828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7864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5144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396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3268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1520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9304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7556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48360" y="46623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3868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3704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1956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0080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7864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5144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3396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3268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520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9304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7556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48360" y="447984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181480" y="470844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077320" y="470844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6591240" y="52038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6590880" y="421308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2920" y="4403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54720" y="4403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57680" y="402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57680" y="50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219320" y="4038480"/>
            <a:ext cx="3295800" cy="1465560"/>
            <a:chOff x="1219320" y="4038480"/>
            <a:chExt cx="3295800" cy="1465560"/>
          </a:xfrm>
        </p:grpSpPr>
        <p:sp>
          <p:nvSpPr>
            <p:cNvPr id="341" name=""/>
            <p:cNvSpPr/>
            <p:nvPr/>
          </p:nvSpPr>
          <p:spPr>
            <a:xfrm>
              <a:off x="167652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7524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776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612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3864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1648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8964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7216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7052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5304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088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340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86560" y="487656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7524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776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5612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3864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1648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8964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216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7052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5304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3088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1340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86560" y="467820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7652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7524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5776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5612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64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1648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8964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7216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7052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5304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3088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1340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6560" y="4495680"/>
              <a:ext cx="182520" cy="18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472428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115160" y="47242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2629080" y="52192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2628720" y="42289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20760" y="44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2560" y="441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95520" y="4038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95520" y="510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34960" y="5715000"/>
            <a:ext cx="822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acilidade com que as partículas se deformam para fechar os buracos  também depende do seu comportamento mecân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951-C9A6-42DC-AC10-444B00BF18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ças 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0920" y="60087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. Visschers, J. Laven, A. L. German, Current understanding of the deformation of latex particles during film formation,  Progress in Organic Coatings 30 (1997) 3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rcRect l="0" t="0" r="0" b="9700"/>
          <a:stretch/>
        </p:blipFill>
        <p:spPr>
          <a:xfrm>
            <a:off x="5181480" y="685800"/>
            <a:ext cx="3838680" cy="54100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rcRect l="26110" t="0" r="25414" b="11114"/>
          <a:stretch/>
        </p:blipFill>
        <p:spPr>
          <a:xfrm>
            <a:off x="1371600" y="1752480"/>
            <a:ext cx="19810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6212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F71-9A5A-47BD-A6ED-5BCB6DB03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9520" y="114300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ças oper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perficiais (F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ças capilares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1-3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 der Waals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acional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lsão eletrostática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sta das partículas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eras e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eras eláticas na presença de forças atrativas de Van der Wa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s Vis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eras visco-e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26110" t="0" r="25414" b="11114"/>
          <a:stretch/>
        </p:blipFill>
        <p:spPr>
          <a:xfrm>
            <a:off x="990720" y="1066680"/>
            <a:ext cx="19810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4570560" cy="6415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-1905120" y="76320"/>
            <a:ext cx="1828800" cy="2178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QUE É F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são interfacial  polímero/ar e tensão interfacial polímero/á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D61-4497-4D18-9F5D-ECFF6BAD3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276720"/>
            <a:ext cx="4495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persão está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L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CC (concentração crítica de coagul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33526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lme de lát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í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mogê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vada resistência mecâ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3716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3300"/>
                </a:solidFill>
                <a:latin typeface="Times New Roman"/>
              </a:rPr>
              <a:t>Quais são as forças responsáveis por essa transformaçã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51892" b="62950"/>
          <a:stretch/>
        </p:blipFill>
        <p:spPr>
          <a:xfrm>
            <a:off x="304920" y="14479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45880" t="77735" r="0" b="0"/>
          <a:stretch/>
        </p:blipFill>
        <p:spPr>
          <a:xfrm>
            <a:off x="5943600" y="1676520"/>
            <a:ext cx="3000240" cy="91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2057400"/>
            <a:ext cx="2971800" cy="228600"/>
          </a:xfrm>
          <a:prstGeom prst="rightArrow">
            <a:avLst>
              <a:gd name="adj1" fmla="val 50000"/>
              <a:gd name="adj2" fmla="val 3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286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3300"/>
                </a:solidFill>
                <a:latin typeface="Times New Roman"/>
              </a:rPr>
              <a:t>Qual é origem dessas forç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92C-E055-4467-A13E-A7F454C14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 a seco: tensão superficial polímero/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 em água: tensão interfacial polímero/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 em atmosfera úmida: tensão interfacial polímero/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ão Cap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ssão da frente de águ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ão cap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 seca 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 em atmosfera ú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rmação de Sheetz: pressão através de pele formada devido à secagem vertical irreg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0" t="0" r="3681" b="14437"/>
          <a:stretch/>
        </p:blipFill>
        <p:spPr>
          <a:xfrm>
            <a:off x="4343400" y="3352680"/>
            <a:ext cx="3486240" cy="139392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3276720" y="2438280"/>
            <a:ext cx="1676160" cy="838080"/>
            <a:chOff x="3276720" y="2438280"/>
            <a:chExt cx="1676160" cy="83808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rcRect l="43680" t="16532" r="12659" b="69477"/>
            <a:stretch/>
          </p:blipFill>
          <p:spPr>
            <a:xfrm>
              <a:off x="3276720" y="243828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"/>
            <p:cNvGrpSpPr/>
            <p:nvPr/>
          </p:nvGrpSpPr>
          <p:grpSpPr>
            <a:xfrm>
              <a:off x="3343320" y="2514240"/>
              <a:ext cx="1542240" cy="695520"/>
              <a:chOff x="3343320" y="2514240"/>
              <a:chExt cx="1542240" cy="695520"/>
            </a:xfrm>
          </p:grpSpPr>
          <p:sp>
            <p:nvSpPr>
              <p:cNvPr id="405" name=""/>
              <p:cNvSpPr/>
              <p:nvPr/>
            </p:nvSpPr>
            <p:spPr>
              <a:xfrm>
                <a:off x="3343320" y="2514240"/>
                <a:ext cx="694800" cy="69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90400" y="2514240"/>
                <a:ext cx="695160" cy="69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52600" y="2747880"/>
                <a:ext cx="61200" cy="1872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0" y="12"/>
                    </a:moveTo>
                    <a:cubicBezTo>
                      <a:pt x="14" y="9"/>
                      <a:pt x="27" y="6"/>
                      <a:pt x="3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014360" y="2723760"/>
                <a:ext cx="123480" cy="3816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0" y="0"/>
                    </a:moveTo>
                    <a:cubicBezTo>
                      <a:pt x="29" y="20"/>
                      <a:pt x="40" y="24"/>
                      <a:pt x="78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99960" y="2976480"/>
                <a:ext cx="11412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72" y="0"/>
                    </a:moveTo>
                    <a:cubicBezTo>
                      <a:pt x="58" y="3"/>
                      <a:pt x="11" y="13"/>
                      <a:pt x="0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109400" y="2977920"/>
                <a:ext cx="118800" cy="4608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0" y="2"/>
                    </a:moveTo>
                    <a:cubicBezTo>
                      <a:pt x="31" y="4"/>
                      <a:pt x="42" y="0"/>
                      <a:pt x="63" y="14"/>
                    </a:cubicBezTo>
                    <a:cubicBezTo>
                      <a:pt x="71" y="25"/>
                      <a:pt x="66" y="20"/>
                      <a:pt x="75" y="2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721-8A6D-4F6F-B0AC-0C9225DCCC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Forças moto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forças de rea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2600" spc="-1" strike="noStrike">
                <a:solidFill>
                  <a:srgbClr val="00cc99"/>
                </a:solidFill>
                <a:latin typeface="Times New Roman"/>
              </a:rPr>
              <a:t>DEFORM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tância entre os centros das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95280" y="2590920"/>
            <a:ext cx="3048120" cy="981000"/>
            <a:chOff x="1295280" y="2590920"/>
            <a:chExt cx="3048120" cy="981000"/>
          </a:xfrm>
        </p:grpSpPr>
        <p:grpSp>
          <p:nvGrpSpPr>
            <p:cNvPr id="414" name=""/>
            <p:cNvGrpSpPr/>
            <p:nvPr/>
          </p:nvGrpSpPr>
          <p:grpSpPr>
            <a:xfrm>
              <a:off x="1919160" y="2590920"/>
              <a:ext cx="900000" cy="981000"/>
              <a:chOff x="1919160" y="2590920"/>
              <a:chExt cx="900000" cy="981000"/>
            </a:xfrm>
          </p:grpSpPr>
          <p:sp>
            <p:nvSpPr>
              <p:cNvPr id="415" name=""/>
              <p:cNvSpPr/>
              <p:nvPr/>
            </p:nvSpPr>
            <p:spPr>
              <a:xfrm>
                <a:off x="1919160" y="2590920"/>
                <a:ext cx="900000" cy="9810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25880" y="25909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819160" y="2590920"/>
              <a:ext cx="900000" cy="981000"/>
              <a:chOff x="2819160" y="2590920"/>
              <a:chExt cx="900000" cy="981000"/>
            </a:xfrm>
          </p:grpSpPr>
          <p:sp>
            <p:nvSpPr>
              <p:cNvPr id="418" name=""/>
              <p:cNvSpPr/>
              <p:nvPr/>
            </p:nvSpPr>
            <p:spPr>
              <a:xfrm>
                <a:off x="2819160" y="2590920"/>
                <a:ext cx="900000" cy="9810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5880" y="25909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295280" y="312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733560" y="31244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0400" y="274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15000" y="274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638680" y="2590920"/>
            <a:ext cx="2743200" cy="981000"/>
            <a:chOff x="5638680" y="2590920"/>
            <a:chExt cx="2743200" cy="981000"/>
          </a:xfrm>
        </p:grpSpPr>
        <p:grpSp>
          <p:nvGrpSpPr>
            <p:cNvPr id="425" name=""/>
            <p:cNvGrpSpPr/>
            <p:nvPr/>
          </p:nvGrpSpPr>
          <p:grpSpPr>
            <a:xfrm>
              <a:off x="6262560" y="2590920"/>
              <a:ext cx="900000" cy="981000"/>
              <a:chOff x="6262560" y="2590920"/>
              <a:chExt cx="900000" cy="981000"/>
            </a:xfrm>
          </p:grpSpPr>
          <p:sp>
            <p:nvSpPr>
              <p:cNvPr id="426" name=""/>
              <p:cNvSpPr/>
              <p:nvPr/>
            </p:nvSpPr>
            <p:spPr>
              <a:xfrm>
                <a:off x="6262560" y="2590920"/>
                <a:ext cx="900000" cy="9810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69280" y="25909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857640" y="2590920"/>
              <a:ext cx="900000" cy="981000"/>
              <a:chOff x="6857640" y="2590920"/>
              <a:chExt cx="900000" cy="9810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7640" y="2590920"/>
                <a:ext cx="900000" cy="9810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64360" y="25909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638680" y="312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772040" y="3124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43800" y="274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3480" y="274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286000" y="380988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50640" y="3821040"/>
            <a:ext cx="137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12400" y="4618080"/>
            <a:ext cx="549180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io das partículas orig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esistência das partículas à de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90512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que é stra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D21-767D-497B-AE35-1F4222F5BE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ças de reação características das partícu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ículas elásticas (Hertz)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234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: módulo de cisalh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ículas viscosas (Frenkel)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/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visco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ículas viscoelásticas (Routh &amp; Russe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t): módulo de relaxação de ten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649600" y="4038480"/>
            <a:ext cx="3674880" cy="920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-1905120" y="361800"/>
            <a:ext cx="1828800" cy="3511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is são as evidências experimentais que sugerem que as partículas sejam visco-elá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mplo TMFF ou ponto de claridade óptica muda em  função d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ADE-2849-447E-9CBE-75782BC107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: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form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formation Mechanisms during Latex Film Formation:Experimental Eviden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lexander F. Routh and William B. Russel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nd. Eng. Chem. Res.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001,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40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4302</a:t>
            </a:r>
            <a:r>
              <a:rPr b="0" lang="pt-BR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430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1933560"/>
            <a:ext cx="5484960" cy="3324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52280" y="434340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3581280" y="15840"/>
            <a:ext cx="3504960" cy="6189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 modelo geral mostra que controlando parâmetros experimentais é possível os mecanismos de deforma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e modelo mostra como a deformação das partículas não é completamente desvinculada da secagem do filme ou seja tanto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o Pe dependem da velocidade de evaporação E e das características visco-elásticas das partí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371680"/>
            <a:ext cx="33526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empo requerido para que ocorra colapso viscoso/tempo de evapo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: velocidade de evaporação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(temperatura e umidade relativa do 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raio das part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viscosidade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(temperatu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ensã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: espessura do fil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14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mes dos mecânismos de de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B64-C49C-4DB5-BC3B-BE9114653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I: Coalesc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escênc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ículas homogêneas estabilizadas por surfactantes: coalescência é a fusão das partículas acompanhada da expulsão das moleculas de surfac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ículas core-shell: coalescência é a fusão das partículas que ocorre com a ruptura da casca hidrofílica permitindo o contato direto entre os caroços das partíc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valier, Y.; Pichot, C.; Graillat, C.; Joanicot, M.; Wong, K.; Maquet, J.; Lindner, P.; Cabane 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oid Polym. Sci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70, 806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orça motora para ocorrência de coalescência é a redução da energia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teriz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: tensão interfacial polímero/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gua: tensão interfacial polímero/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sistência mecânica dos filmes atinge o valor máximo quando as cadeias poliméricas difundem uma extensão comparável ao seu raio de gi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ard, J.; Maquet, J. Dynamic micro-mechanical investigations into particle/particle interfaces in latex films. Polymer 1992, 33(19), 4164-417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1981080" y="15840"/>
            <a:ext cx="1828800" cy="1924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udar para dar o contexto sobre a descoberta da ocorrência de coalescência por Voyuti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858-4DE2-4EBC-808F-83B2170E55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I: Coalesc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terização em 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4960" cy="5077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-2346480" y="0"/>
            <a:ext cx="2270160" cy="3511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interização em ar as partículas deformam e coalescem concomitante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interização em água existe também a presença de água entre as partículas como uma barreira para a coalesc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907-ACBA-4699-B68F-81F53E1475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I: Coalesc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ículas estabilizadas por surfac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escência: T&gt;T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art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o: látex de estireno-butadieno (S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ilizado por surfac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lescência: T&gt; 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ículas do tipo casca-caroço contendo casca de alta Tg (membrana hidrofí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escência: T&gt;T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mplo: látex com miolo de estireno-butadieno (SB) e casca de ácido acrílico (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e Tg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10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lescência: T&gt; 10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250680" y="5334120"/>
            <a:ext cx="1576800" cy="1373040"/>
            <a:chOff x="6250680" y="5334120"/>
            <a:chExt cx="1576800" cy="1373040"/>
          </a:xfrm>
        </p:grpSpPr>
        <p:sp>
          <p:nvSpPr>
            <p:cNvPr id="460" name=""/>
            <p:cNvSpPr/>
            <p:nvPr/>
          </p:nvSpPr>
          <p:spPr>
            <a:xfrm>
              <a:off x="6324840" y="5334120"/>
              <a:ext cx="1371600" cy="1371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9640" y="5668920"/>
              <a:ext cx="731880" cy="73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84200" y="63388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4200" y="53485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50680" y="579132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17720" y="58816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697440" y="1564560"/>
            <a:ext cx="1570320" cy="1564200"/>
            <a:chOff x="6697440" y="1564560"/>
            <a:chExt cx="1570320" cy="1564200"/>
          </a:xfrm>
        </p:grpSpPr>
        <p:grpSp>
          <p:nvGrpSpPr>
            <p:cNvPr id="467" name=""/>
            <p:cNvGrpSpPr/>
            <p:nvPr/>
          </p:nvGrpSpPr>
          <p:grpSpPr>
            <a:xfrm>
              <a:off x="6768720" y="1918440"/>
              <a:ext cx="477360" cy="300960"/>
              <a:chOff x="6768720" y="1918440"/>
              <a:chExt cx="477360" cy="300960"/>
            </a:xfrm>
          </p:grpSpPr>
          <p:sp>
            <p:nvSpPr>
              <p:cNvPr id="468" name=""/>
              <p:cNvSpPr/>
              <p:nvPr/>
            </p:nvSpPr>
            <p:spPr>
              <a:xfrm rot="1424400">
                <a:off x="6856200" y="2097000"/>
                <a:ext cx="39780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615800">
                <a:off x="6790680" y="1941120"/>
                <a:ext cx="13248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169400" y="2023200"/>
              <a:ext cx="636840" cy="621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04040" y="21974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6699960" y="2062080"/>
              <a:ext cx="486000" cy="271440"/>
              <a:chOff x="6699960" y="2062080"/>
              <a:chExt cx="486000" cy="271440"/>
            </a:xfrm>
          </p:grpSpPr>
          <p:sp>
            <p:nvSpPr>
              <p:cNvPr id="473" name=""/>
              <p:cNvSpPr/>
              <p:nvPr/>
            </p:nvSpPr>
            <p:spPr>
              <a:xfrm rot="1175400">
                <a:off x="6792480" y="2223360"/>
                <a:ext cx="397440" cy="4464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66800">
                <a:off x="6719400" y="2082600"/>
                <a:ext cx="132120" cy="12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869520" y="1803240"/>
              <a:ext cx="486000" cy="271080"/>
              <a:chOff x="6869520" y="1803240"/>
              <a:chExt cx="486000" cy="271080"/>
            </a:xfrm>
          </p:grpSpPr>
          <p:sp>
            <p:nvSpPr>
              <p:cNvPr id="476" name=""/>
              <p:cNvSpPr/>
              <p:nvPr/>
            </p:nvSpPr>
            <p:spPr>
              <a:xfrm rot="1175400">
                <a:off x="6962040" y="1964520"/>
                <a:ext cx="39744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66800">
                <a:off x="6889320" y="1823760"/>
                <a:ext cx="13212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697440" y="2212200"/>
              <a:ext cx="494640" cy="229680"/>
              <a:chOff x="6697440" y="2212200"/>
              <a:chExt cx="494640" cy="229680"/>
            </a:xfrm>
          </p:grpSpPr>
          <p:sp>
            <p:nvSpPr>
              <p:cNvPr id="479" name=""/>
              <p:cNvSpPr/>
              <p:nvPr/>
            </p:nvSpPr>
            <p:spPr>
              <a:xfrm rot="847200">
                <a:off x="6795000" y="2349360"/>
                <a:ext cx="39744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038600">
                <a:off x="6713640" y="2228760"/>
                <a:ext cx="13212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677000" y="1888200"/>
              <a:ext cx="494280" cy="230040"/>
              <a:chOff x="7677000" y="1888200"/>
              <a:chExt cx="494280" cy="230040"/>
            </a:xfrm>
          </p:grpSpPr>
          <p:sp>
            <p:nvSpPr>
              <p:cNvPr id="482" name=""/>
              <p:cNvSpPr/>
              <p:nvPr/>
            </p:nvSpPr>
            <p:spPr>
              <a:xfrm flipH="1" rot="20752800">
                <a:off x="7675920" y="2025360"/>
                <a:ext cx="397440" cy="4500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20561400">
                <a:off x="8022600" y="1904760"/>
                <a:ext cx="132120" cy="12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772760" y="2017440"/>
              <a:ext cx="495000" cy="230040"/>
              <a:chOff x="7772760" y="2017440"/>
              <a:chExt cx="495000" cy="230040"/>
            </a:xfrm>
          </p:grpSpPr>
          <p:sp>
            <p:nvSpPr>
              <p:cNvPr id="485" name=""/>
              <p:cNvSpPr/>
              <p:nvPr/>
            </p:nvSpPr>
            <p:spPr>
              <a:xfrm flipH="1" rot="20752800">
                <a:off x="7772040" y="2155320"/>
                <a:ext cx="39780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20561400">
                <a:off x="8119080" y="2034000"/>
                <a:ext cx="13248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772760" y="2211840"/>
              <a:ext cx="495000" cy="230040"/>
              <a:chOff x="7772760" y="2211840"/>
              <a:chExt cx="495000" cy="230040"/>
            </a:xfrm>
          </p:grpSpPr>
          <p:sp>
            <p:nvSpPr>
              <p:cNvPr id="488" name=""/>
              <p:cNvSpPr/>
              <p:nvPr/>
            </p:nvSpPr>
            <p:spPr>
              <a:xfrm flipH="1" rot="20752800">
                <a:off x="7772040" y="2349720"/>
                <a:ext cx="39780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rot="20561400">
                <a:off x="8119080" y="2228400"/>
                <a:ext cx="13248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741000" y="2414520"/>
              <a:ext cx="495360" cy="132840"/>
              <a:chOff x="6741000" y="2414520"/>
              <a:chExt cx="495360" cy="132840"/>
            </a:xfrm>
          </p:grpSpPr>
          <p:sp>
            <p:nvSpPr>
              <p:cNvPr id="491" name=""/>
              <p:cNvSpPr/>
              <p:nvPr/>
            </p:nvSpPr>
            <p:spPr>
              <a:xfrm rot="21316200">
                <a:off x="6837840" y="2463840"/>
                <a:ext cx="39744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1507600">
                <a:off x="6742440" y="2416320"/>
                <a:ext cx="13212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765200" y="2424240"/>
              <a:ext cx="500400" cy="146520"/>
              <a:chOff x="7765200" y="2424240"/>
              <a:chExt cx="500400" cy="146520"/>
            </a:xfrm>
          </p:grpSpPr>
          <p:sp>
            <p:nvSpPr>
              <p:cNvPr id="494" name=""/>
              <p:cNvSpPr/>
              <p:nvPr/>
            </p:nvSpPr>
            <p:spPr>
              <a:xfrm flipH="1" rot="616800">
                <a:off x="7765560" y="2459160"/>
                <a:ext cx="39780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rot="425400">
                <a:off x="8125200" y="2433960"/>
                <a:ext cx="13248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102080" y="1616400"/>
              <a:ext cx="364320" cy="435960"/>
              <a:chOff x="7102080" y="1616400"/>
              <a:chExt cx="364320" cy="435960"/>
            </a:xfrm>
          </p:grpSpPr>
          <p:sp>
            <p:nvSpPr>
              <p:cNvPr id="497" name=""/>
              <p:cNvSpPr/>
              <p:nvPr/>
            </p:nvSpPr>
            <p:spPr>
              <a:xfrm rot="2935800">
                <a:off x="7127280" y="1867680"/>
                <a:ext cx="38844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3127200">
                <a:off x="7129080" y="164160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575840" y="1690920"/>
              <a:ext cx="442800" cy="369360"/>
              <a:chOff x="7575840" y="1690920"/>
              <a:chExt cx="442800" cy="369360"/>
            </a:xfrm>
          </p:grpSpPr>
          <p:sp>
            <p:nvSpPr>
              <p:cNvPr id="500" name=""/>
              <p:cNvSpPr/>
              <p:nvPr/>
            </p:nvSpPr>
            <p:spPr>
              <a:xfrm rot="8335800">
                <a:off x="7541280" y="1890720"/>
                <a:ext cx="39744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8527200">
                <a:off x="7860600" y="1717560"/>
                <a:ext cx="13212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512120" y="1564560"/>
              <a:ext cx="144000" cy="486000"/>
              <a:chOff x="7512120" y="1564560"/>
              <a:chExt cx="144000" cy="486000"/>
            </a:xfrm>
          </p:grpSpPr>
          <p:sp>
            <p:nvSpPr>
              <p:cNvPr id="503" name=""/>
              <p:cNvSpPr/>
              <p:nvPr/>
            </p:nvSpPr>
            <p:spPr>
              <a:xfrm rot="5534400">
                <a:off x="7356960" y="1832760"/>
                <a:ext cx="38844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5725800">
                <a:off x="7519320" y="156888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445520" y="2643120"/>
              <a:ext cx="144000" cy="485640"/>
              <a:chOff x="7445520" y="2643120"/>
              <a:chExt cx="144000" cy="485640"/>
            </a:xfrm>
          </p:grpSpPr>
          <p:sp>
            <p:nvSpPr>
              <p:cNvPr id="506" name=""/>
              <p:cNvSpPr/>
              <p:nvPr/>
            </p:nvSpPr>
            <p:spPr>
              <a:xfrm flipV="1" rot="16065600">
                <a:off x="7290720" y="2814840"/>
                <a:ext cx="38808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 rot="15874200">
                <a:off x="7452720" y="299196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805800" y="2543040"/>
              <a:ext cx="481320" cy="294120"/>
              <a:chOff x="6805800" y="2543040"/>
              <a:chExt cx="481320" cy="294120"/>
            </a:xfrm>
          </p:grpSpPr>
          <p:sp>
            <p:nvSpPr>
              <p:cNvPr id="509" name=""/>
              <p:cNvSpPr/>
              <p:nvPr/>
            </p:nvSpPr>
            <p:spPr>
              <a:xfrm rot="19838400">
                <a:off x="6904080" y="2637720"/>
                <a:ext cx="397800" cy="4428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029800">
                <a:off x="6827400" y="2685240"/>
                <a:ext cx="132480" cy="129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725240" y="2520000"/>
              <a:ext cx="382320" cy="421200"/>
              <a:chOff x="7725240" y="2520000"/>
              <a:chExt cx="382320" cy="421200"/>
            </a:xfrm>
          </p:grpSpPr>
          <p:sp>
            <p:nvSpPr>
              <p:cNvPr id="512" name=""/>
              <p:cNvSpPr/>
              <p:nvPr/>
            </p:nvSpPr>
            <p:spPr>
              <a:xfrm rot="13530600">
                <a:off x="7683120" y="2651400"/>
                <a:ext cx="38808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3722000">
                <a:off x="7950600" y="278244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020000" y="2595960"/>
              <a:ext cx="401040" cy="404640"/>
              <a:chOff x="7020000" y="2595960"/>
              <a:chExt cx="401040" cy="404640"/>
            </a:xfrm>
          </p:grpSpPr>
          <p:sp>
            <p:nvSpPr>
              <p:cNvPr id="515" name=""/>
              <p:cNvSpPr/>
              <p:nvPr/>
            </p:nvSpPr>
            <p:spPr>
              <a:xfrm rot="18666600">
                <a:off x="7081920" y="2734200"/>
                <a:ext cx="38844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8858000">
                <a:off x="7047720" y="284184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571520" y="2620800"/>
              <a:ext cx="297360" cy="469800"/>
              <a:chOff x="7571520" y="2620800"/>
              <a:chExt cx="297360" cy="469800"/>
            </a:xfrm>
          </p:grpSpPr>
          <p:sp>
            <p:nvSpPr>
              <p:cNvPr id="518" name=""/>
              <p:cNvSpPr/>
              <p:nvPr/>
            </p:nvSpPr>
            <p:spPr>
              <a:xfrm rot="14382600">
                <a:off x="7494840" y="2777040"/>
                <a:ext cx="388080" cy="45720"/>
              </a:xfrm>
              <a:custGeom>
                <a:avLst/>
                <a:gdLst/>
                <a:ahLst/>
                <a:rect l="l" t="t" r="r" b="b"/>
                <a:pathLst>
                  <a:path w="904" h="105">
                    <a:moveTo>
                      <a:pt x="0" y="40"/>
                    </a:moveTo>
                    <a:cubicBezTo>
                      <a:pt x="54" y="31"/>
                      <a:pt x="72" y="16"/>
                      <a:pt x="120" y="0"/>
                    </a:cubicBezTo>
                    <a:cubicBezTo>
                      <a:pt x="136" y="3"/>
                      <a:pt x="153" y="1"/>
                      <a:pt x="168" y="8"/>
                    </a:cubicBezTo>
                    <a:cubicBezTo>
                      <a:pt x="178" y="13"/>
                      <a:pt x="183" y="25"/>
                      <a:pt x="192" y="32"/>
                    </a:cubicBezTo>
                    <a:cubicBezTo>
                      <a:pt x="217" y="53"/>
                      <a:pt x="241" y="70"/>
                      <a:pt x="272" y="80"/>
                    </a:cubicBezTo>
                    <a:cubicBezTo>
                      <a:pt x="274" y="79"/>
                      <a:pt x="323" y="68"/>
                      <a:pt x="328" y="64"/>
                    </a:cubicBezTo>
                    <a:cubicBezTo>
                      <a:pt x="336" y="58"/>
                      <a:pt x="337" y="46"/>
                      <a:pt x="344" y="40"/>
                    </a:cubicBezTo>
                    <a:cubicBezTo>
                      <a:pt x="358" y="27"/>
                      <a:pt x="392" y="8"/>
                      <a:pt x="392" y="8"/>
                    </a:cubicBezTo>
                    <a:cubicBezTo>
                      <a:pt x="416" y="11"/>
                      <a:pt x="441" y="8"/>
                      <a:pt x="464" y="16"/>
                    </a:cubicBezTo>
                    <a:cubicBezTo>
                      <a:pt x="484" y="23"/>
                      <a:pt x="491" y="51"/>
                      <a:pt x="504" y="64"/>
                    </a:cubicBezTo>
                    <a:cubicBezTo>
                      <a:pt x="520" y="80"/>
                      <a:pt x="532" y="81"/>
                      <a:pt x="552" y="88"/>
                    </a:cubicBezTo>
                    <a:cubicBezTo>
                      <a:pt x="592" y="75"/>
                      <a:pt x="621" y="56"/>
                      <a:pt x="656" y="32"/>
                    </a:cubicBezTo>
                    <a:cubicBezTo>
                      <a:pt x="672" y="21"/>
                      <a:pt x="694" y="22"/>
                      <a:pt x="712" y="16"/>
                    </a:cubicBezTo>
                    <a:cubicBezTo>
                      <a:pt x="731" y="19"/>
                      <a:pt x="751" y="15"/>
                      <a:pt x="768" y="24"/>
                    </a:cubicBezTo>
                    <a:cubicBezTo>
                      <a:pt x="840" y="63"/>
                      <a:pt x="793" y="73"/>
                      <a:pt x="872" y="96"/>
                    </a:cubicBezTo>
                    <a:cubicBezTo>
                      <a:pt x="903" y="105"/>
                      <a:pt x="886" y="104"/>
                      <a:pt x="904" y="1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4574000">
                <a:off x="7715520" y="2936520"/>
                <a:ext cx="129240" cy="1324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3EB-56C4-45BF-993B-4D540DEA57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ágio III: Coalesc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ito da [AA] na coalesc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niK et al. DET (direct non radiative energy trans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anicot et al. S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AA]: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velo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dif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2629080" y="0"/>
            <a:ext cx="1828800" cy="3998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: excita-se o sistema com a energia do antraceno e acompanha como a emissão do pireno aumenta com o 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S: modelos que relacionam o aumento do raio com o coefieciente de interdifu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232240" y="3962520"/>
          <a:ext cx="370872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3962520"/>
                    <a:ext cx="37087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457200" y="4533840"/>
            <a:ext cx="4114800" cy="838440"/>
            <a:chOff x="457200" y="4533840"/>
            <a:chExt cx="4114800" cy="838440"/>
          </a:xfrm>
        </p:grpSpPr>
        <p:grpSp>
          <p:nvGrpSpPr>
            <p:cNvPr id="526" name=""/>
            <p:cNvGrpSpPr/>
            <p:nvPr/>
          </p:nvGrpSpPr>
          <p:grpSpPr>
            <a:xfrm>
              <a:off x="457200" y="4533840"/>
              <a:ext cx="4114800" cy="838440"/>
              <a:chOff x="457200" y="4533840"/>
              <a:chExt cx="4114800" cy="83844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457200" y="4686480"/>
                <a:ext cx="1218960" cy="609480"/>
                <a:chOff x="457200" y="4686480"/>
                <a:chExt cx="1218960" cy="6094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57200" y="4686480"/>
                  <a:ext cx="609480" cy="60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066680" y="4686480"/>
                  <a:ext cx="609480" cy="60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981080" y="4686480"/>
                <a:ext cx="1066680" cy="609480"/>
                <a:chOff x="1981080" y="4686480"/>
                <a:chExt cx="1066680" cy="6094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438280" y="4686480"/>
                  <a:ext cx="609480" cy="60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981080" y="4686480"/>
                  <a:ext cx="609480" cy="609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3429000" y="4533840"/>
                <a:ext cx="1143000" cy="83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1744560" y="5029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408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57200" y="1752480"/>
            <a:ext cx="7381080" cy="2225880"/>
            <a:chOff x="457200" y="1752480"/>
            <a:chExt cx="7381080" cy="2225880"/>
          </a:xfrm>
        </p:grpSpPr>
        <p:sp>
          <p:nvSpPr>
            <p:cNvPr id="537" name=""/>
            <p:cNvSpPr/>
            <p:nvPr/>
          </p:nvSpPr>
          <p:spPr>
            <a:xfrm>
              <a:off x="4737240" y="2769840"/>
              <a:ext cx="2289600" cy="1208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90920" y="2960640"/>
              <a:ext cx="120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aftal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ir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2760" y="2706480"/>
              <a:ext cx="1144800" cy="114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20200" y="30880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047960" y="2706480"/>
              <a:ext cx="1144800" cy="1144800"/>
              <a:chOff x="1047960" y="2706480"/>
              <a:chExt cx="1144800" cy="1144800"/>
            </a:xfrm>
          </p:grpSpPr>
          <p:sp>
            <p:nvSpPr>
              <p:cNvPr id="542" name=""/>
              <p:cNvSpPr/>
              <p:nvPr/>
            </p:nvSpPr>
            <p:spPr>
              <a:xfrm>
                <a:off x="1047960" y="2706480"/>
                <a:ext cx="1144800" cy="1144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69360" y="3152880"/>
                <a:ext cx="87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oa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57200" y="1752480"/>
              <a:ext cx="833040" cy="1238400"/>
              <a:chOff x="457200" y="1752480"/>
              <a:chExt cx="833040" cy="1238400"/>
            </a:xfrm>
          </p:grpSpPr>
          <p:sp>
            <p:nvSpPr>
              <p:cNvPr id="545" name=""/>
              <p:cNvSpPr/>
              <p:nvPr/>
            </p:nvSpPr>
            <p:spPr>
              <a:xfrm rot="7797000">
                <a:off x="983880" y="2684520"/>
                <a:ext cx="254160" cy="2541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457200" y="1752480"/>
                <a:ext cx="775440" cy="1011960"/>
                <a:chOff x="457200" y="1752480"/>
                <a:chExt cx="775440" cy="10119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57200" y="1752480"/>
                  <a:ext cx="631800" cy="1011960"/>
                </a:xfrm>
                <a:custGeom>
                  <a:avLst/>
                  <a:gdLst/>
                  <a:ahLst/>
                  <a:rect l="l" t="t" r="r" b="b"/>
                  <a:pathLst>
                    <a:path w="477" h="764">
                      <a:moveTo>
                        <a:pt x="0" y="8"/>
                      </a:moveTo>
                      <a:cubicBezTo>
                        <a:pt x="30" y="11"/>
                        <a:pt x="65" y="0"/>
                        <a:pt x="90" y="17"/>
                      </a:cubicBezTo>
                      <a:cubicBezTo>
                        <a:pt x="103" y="25"/>
                        <a:pt x="85" y="47"/>
                        <a:pt x="81" y="62"/>
                      </a:cubicBezTo>
                      <a:cubicBezTo>
                        <a:pt x="76" y="80"/>
                        <a:pt x="68" y="98"/>
                        <a:pt x="63" y="116"/>
                      </a:cubicBezTo>
                      <a:cubicBezTo>
                        <a:pt x="60" y="128"/>
                        <a:pt x="57" y="140"/>
                        <a:pt x="54" y="152"/>
                      </a:cubicBezTo>
                      <a:cubicBezTo>
                        <a:pt x="68" y="233"/>
                        <a:pt x="74" y="220"/>
                        <a:pt x="153" y="233"/>
                      </a:cubicBezTo>
                      <a:cubicBezTo>
                        <a:pt x="199" y="279"/>
                        <a:pt x="188" y="301"/>
                        <a:pt x="180" y="368"/>
                      </a:cubicBezTo>
                      <a:cubicBezTo>
                        <a:pt x="193" y="512"/>
                        <a:pt x="168" y="491"/>
                        <a:pt x="315" y="503"/>
                      </a:cubicBezTo>
                      <a:cubicBezTo>
                        <a:pt x="388" y="552"/>
                        <a:pt x="358" y="577"/>
                        <a:pt x="351" y="683"/>
                      </a:cubicBezTo>
                      <a:cubicBezTo>
                        <a:pt x="369" y="704"/>
                        <a:pt x="382" y="731"/>
                        <a:pt x="405" y="746"/>
                      </a:cubicBezTo>
                      <a:cubicBezTo>
                        <a:pt x="426" y="760"/>
                        <a:pt x="455" y="753"/>
                        <a:pt x="477" y="764"/>
                      </a:cubicBezTo>
                    </a:path>
                  </a:pathLst>
                </a:custGeom>
                <a:noFill/>
                <a:ln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41240" y="1937520"/>
                  <a:ext cx="49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Symbol"/>
                      <a:ea typeface="Symbol"/>
                    </a:rPr>
                    <a:t>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9" name=""/>
            <p:cNvSpPr/>
            <p:nvPr/>
          </p:nvSpPr>
          <p:spPr>
            <a:xfrm rot="15037800">
              <a:off x="6915960" y="2318040"/>
              <a:ext cx="631800" cy="1012320"/>
            </a:xfrm>
            <a:custGeom>
              <a:avLst/>
              <a:gdLst/>
              <a:ahLst/>
              <a:rect l="l" t="t" r="r" b="b"/>
              <a:pathLst>
                <a:path w="477" h="764">
                  <a:moveTo>
                    <a:pt x="0" y="8"/>
                  </a:moveTo>
                  <a:cubicBezTo>
                    <a:pt x="30" y="11"/>
                    <a:pt x="65" y="0"/>
                    <a:pt x="90" y="17"/>
                  </a:cubicBezTo>
                  <a:cubicBezTo>
                    <a:pt x="103" y="25"/>
                    <a:pt x="85" y="47"/>
                    <a:pt x="81" y="62"/>
                  </a:cubicBezTo>
                  <a:cubicBezTo>
                    <a:pt x="76" y="80"/>
                    <a:pt x="68" y="98"/>
                    <a:pt x="63" y="116"/>
                  </a:cubicBezTo>
                  <a:cubicBezTo>
                    <a:pt x="60" y="128"/>
                    <a:pt x="57" y="140"/>
                    <a:pt x="54" y="152"/>
                  </a:cubicBezTo>
                  <a:cubicBezTo>
                    <a:pt x="68" y="233"/>
                    <a:pt x="74" y="220"/>
                    <a:pt x="153" y="233"/>
                  </a:cubicBezTo>
                  <a:cubicBezTo>
                    <a:pt x="199" y="279"/>
                    <a:pt x="188" y="301"/>
                    <a:pt x="180" y="368"/>
                  </a:cubicBezTo>
                  <a:cubicBezTo>
                    <a:pt x="193" y="512"/>
                    <a:pt x="168" y="491"/>
                    <a:pt x="315" y="503"/>
                  </a:cubicBezTo>
                  <a:cubicBezTo>
                    <a:pt x="388" y="552"/>
                    <a:pt x="358" y="577"/>
                    <a:pt x="351" y="683"/>
                  </a:cubicBezTo>
                  <a:cubicBezTo>
                    <a:pt x="369" y="704"/>
                    <a:pt x="382" y="731"/>
                    <a:pt x="405" y="746"/>
                  </a:cubicBezTo>
                  <a:cubicBezTo>
                    <a:pt x="426" y="760"/>
                    <a:pt x="455" y="753"/>
                    <a:pt x="477" y="7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235400">
              <a:off x="7515720" y="2195640"/>
              <a:ext cx="254520" cy="254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6880" y="2642760"/>
              <a:ext cx="49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037400" y="2070360"/>
              <a:ext cx="833040" cy="1238400"/>
              <a:chOff x="4037400" y="2070360"/>
              <a:chExt cx="833040" cy="1238400"/>
            </a:xfrm>
          </p:grpSpPr>
          <p:sp>
            <p:nvSpPr>
              <p:cNvPr id="553" name=""/>
              <p:cNvSpPr/>
              <p:nvPr/>
            </p:nvSpPr>
            <p:spPr>
              <a:xfrm rot="7797000">
                <a:off x="4564080" y="3002400"/>
                <a:ext cx="254160" cy="25416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4037400" y="2070360"/>
                <a:ext cx="776520" cy="1011960"/>
                <a:chOff x="4037400" y="2070360"/>
                <a:chExt cx="776520" cy="1011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037400" y="2070360"/>
                  <a:ext cx="631800" cy="1011960"/>
                </a:xfrm>
                <a:custGeom>
                  <a:avLst/>
                  <a:gdLst/>
                  <a:ahLst/>
                  <a:rect l="l" t="t" r="r" b="b"/>
                  <a:pathLst>
                    <a:path w="477" h="764">
                      <a:moveTo>
                        <a:pt x="0" y="8"/>
                      </a:moveTo>
                      <a:cubicBezTo>
                        <a:pt x="30" y="11"/>
                        <a:pt x="65" y="0"/>
                        <a:pt x="90" y="17"/>
                      </a:cubicBezTo>
                      <a:cubicBezTo>
                        <a:pt x="103" y="25"/>
                        <a:pt x="85" y="47"/>
                        <a:pt x="81" y="62"/>
                      </a:cubicBezTo>
                      <a:cubicBezTo>
                        <a:pt x="76" y="80"/>
                        <a:pt x="68" y="98"/>
                        <a:pt x="63" y="116"/>
                      </a:cubicBezTo>
                      <a:cubicBezTo>
                        <a:pt x="60" y="128"/>
                        <a:pt x="57" y="140"/>
                        <a:pt x="54" y="152"/>
                      </a:cubicBezTo>
                      <a:cubicBezTo>
                        <a:pt x="68" y="233"/>
                        <a:pt x="74" y="220"/>
                        <a:pt x="153" y="233"/>
                      </a:cubicBezTo>
                      <a:cubicBezTo>
                        <a:pt x="199" y="279"/>
                        <a:pt x="188" y="301"/>
                        <a:pt x="180" y="368"/>
                      </a:cubicBezTo>
                      <a:cubicBezTo>
                        <a:pt x="193" y="512"/>
                        <a:pt x="168" y="491"/>
                        <a:pt x="315" y="503"/>
                      </a:cubicBezTo>
                      <a:cubicBezTo>
                        <a:pt x="388" y="552"/>
                        <a:pt x="358" y="577"/>
                        <a:pt x="351" y="683"/>
                      </a:cubicBezTo>
                      <a:cubicBezTo>
                        <a:pt x="369" y="704"/>
                        <a:pt x="382" y="731"/>
                        <a:pt x="405" y="746"/>
                      </a:cubicBezTo>
                      <a:cubicBezTo>
                        <a:pt x="426" y="760"/>
                        <a:pt x="455" y="753"/>
                        <a:pt x="477" y="764"/>
                      </a:cubicBezTo>
                    </a:path>
                  </a:pathLst>
                </a:custGeom>
                <a:noFill/>
                <a:ln w="2556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22520" y="2255400"/>
                  <a:ext cx="49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cc99"/>
                      </a:solidFill>
                      <a:latin typeface="Times New Roman"/>
                    </a:rPr>
                    <a:t>h</a:t>
                  </a:r>
                  <a:r>
                    <a:rPr b="0" lang="en-US" sz="2400" spc="-1" strike="noStrike">
                      <a:solidFill>
                        <a:srgbClr val="00cc99"/>
                      </a:solidFill>
                      <a:latin typeface="Symbol"/>
                      <a:ea typeface="Symbol"/>
                    </a:rPr>
                    <a:t>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3465000" y="34059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E33-299C-4FA3-AF8D-531D3142CE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ito da concentração de ácido acrílico (AA) na morfologia e distribuição de potenciais elé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figure1" descr=""/>
          <p:cNvPicPr/>
          <p:nvPr/>
        </p:nvPicPr>
        <p:blipFill>
          <a:blip r:embed="rId1"/>
          <a:stretch/>
        </p:blipFill>
        <p:spPr>
          <a:xfrm>
            <a:off x="2668680" y="1295280"/>
            <a:ext cx="4113000" cy="16178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0289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figure2" descr=""/>
          <p:cNvPicPr/>
          <p:nvPr/>
        </p:nvPicPr>
        <p:blipFill>
          <a:blip r:embed="rId2"/>
          <a:stretch/>
        </p:blipFill>
        <p:spPr>
          <a:xfrm>
            <a:off x="2668680" y="3200400"/>
            <a:ext cx="4113000" cy="15717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038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igure3a" descr=""/>
          <p:cNvPicPr/>
          <p:nvPr/>
        </p:nvPicPr>
        <p:blipFill>
          <a:blip r:embed="rId3"/>
          <a:stretch/>
        </p:blipFill>
        <p:spPr>
          <a:xfrm>
            <a:off x="2668680" y="5105520"/>
            <a:ext cx="4113000" cy="15764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036680" y="9144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A] baix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26120" y="47242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A]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78880" y="274320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AA] mé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320" y="25909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A]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sualizaçã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 contor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575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A]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trib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í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C84-32AE-4AB3-9C27-49F1A172A7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alescência versus segregação de espécies hidrofí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0560" y="5866920"/>
            <a:ext cx="5562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 de inversão de fas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anicot, M.; Wong, K.; Richard J.; Maquet, J.; Cabane, B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molecu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6, 3168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2440" y="1492200"/>
            <a:ext cx="8383320" cy="4909680"/>
            <a:chOff x="532440" y="1492200"/>
            <a:chExt cx="8383320" cy="4909680"/>
          </a:xfrm>
        </p:grpSpPr>
        <p:sp>
          <p:nvSpPr>
            <p:cNvPr id="572" name=""/>
            <p:cNvSpPr/>
            <p:nvPr/>
          </p:nvSpPr>
          <p:spPr>
            <a:xfrm>
              <a:off x="6781320" y="5759280"/>
              <a:ext cx="213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se contínu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ímero hidrofób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532440" y="1492200"/>
              <a:ext cx="7554240" cy="4395240"/>
              <a:chOff x="532440" y="1492200"/>
              <a:chExt cx="7554240" cy="4395240"/>
            </a:xfrm>
          </p:grpSpPr>
          <p:pic>
            <p:nvPicPr>
              <p:cNvPr id="574" name="" descr=""/>
              <p:cNvPicPr/>
              <p:nvPr/>
            </p:nvPicPr>
            <p:blipFill>
              <a:blip r:embed="rId1"/>
              <a:srcRect l="0" t="9630" r="0" b="5504"/>
              <a:stretch/>
            </p:blipFill>
            <p:spPr>
              <a:xfrm>
                <a:off x="1057320" y="2190600"/>
                <a:ext cx="7029360" cy="352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flipH="1">
                <a:off x="2819520" y="4267080"/>
                <a:ext cx="12952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5334120" y="190512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5000" y="1523880"/>
                <a:ext cx="17524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se contínua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sca hidrofíl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9520" y="149220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se descontínu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olo hidrofób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4495680" y="1828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32440" y="4876920"/>
                <a:ext cx="203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se descontínu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olímero hidrofí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2057400" y="5181480"/>
                <a:ext cx="14479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43200" y="5120640"/>
                <a:ext cx="302760" cy="76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F91-1156-4C5D-87D0-36252A54C7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stágios de 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819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ágio I: evaporação da água e empacotamento das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ágio II: deformação das partícu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ágio III: interdifusão de cadeias poliméricas entre as partículas (coalescê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71760" y="2073240"/>
            <a:ext cx="5543640" cy="4113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62920" y="2514600"/>
            <a:ext cx="1085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tágio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809880"/>
            <a:ext cx="958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tágio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9080" y="4876920"/>
            <a:ext cx="1038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tágio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D57-11C2-4A1F-9599-B686D83B2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alescência x agente plastific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e plastificante ou de coalesc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-solventes que podem ser incorporados às dispersões de látexes para aumentar a mobilidade das cadeias políme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es co-soventes podem ser voláteis e serem eliminados durante a secagem do fil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rcRect l="0" t="0" r="0" b="52277"/>
          <a:stretch/>
        </p:blipFill>
        <p:spPr>
          <a:xfrm>
            <a:off x="0" y="3429000"/>
            <a:ext cx="4317840" cy="16002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rcRect l="0" t="31453" r="0" b="37523"/>
          <a:stretch/>
        </p:blipFill>
        <p:spPr>
          <a:xfrm>
            <a:off x="4419720" y="3048120"/>
            <a:ext cx="4317840" cy="15238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89080" y="5257800"/>
            <a:ext cx="4130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J. Keslarek, C. A. R. Costa, 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ernando Galembeck*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ctric Charge Clustering and Migration in Latex Films:A Study by Scanning Electric Potential Microscop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001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17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886</a:t>
            </a:r>
            <a:r>
              <a:rPr b="0" lang="en-GB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8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rcRect l="0" t="62481" r="0" b="6496"/>
          <a:stretch/>
        </p:blipFill>
        <p:spPr>
          <a:xfrm>
            <a:off x="4419720" y="5105520"/>
            <a:ext cx="4317840" cy="15238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04920" y="3062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me seco em atmosfera ambiente, 25 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2514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me seco em atmosfera saturada de tolueno, 25 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19720" y="4616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Filme seco em atmosfera saturada de clorofórmio, 25 </a:t>
            </a:r>
            <a:r>
              <a:rPr b="0" lang="en-US" sz="1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1981080" y="15840"/>
            <a:ext cx="1828800" cy="4971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entar sobre as restrições ambientais com relação ao uso de agentes de coalescência que liberam solventes na atmosf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ualmente, prefere-se trabalhar com látexes formados por copolímeros e morfologias casca-miolo para se tentar evitar o uso de co-solv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F0D-56F8-4717-AD47-8A05E0833A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alescênc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ivel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-3962520" y="141120"/>
            <a:ext cx="3749760" cy="6326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fo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ração volumétrica de cadeias poliméricas que se difundiam de uma partícula para outra não era suficiente para justificar a extensão do nivel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o pode ocorrer o desaparecimento dos contornos das partículas apenas a partir do seu nivelamen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condições em que a viscosidade no interior das partículas é muito baixa e desse modo a mobilidade das cadeias é muito alta devido à ação da tensão superficial é possível se provocar alisamentos da superfície tão elevados que a superfície parece perfeitamente pl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 toda vez que a gente avaliar morfologia de partículas através de AFM a gente vai estar acampanhando principalmente mudanças de nivelamento das part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0984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102j1b" descr=""/>
          <p:cNvPicPr/>
          <p:nvPr/>
        </p:nvPicPr>
        <p:blipFill>
          <a:blip r:embed="rId1"/>
          <a:srcRect l="0" t="0" r="50608" b="0"/>
          <a:stretch/>
        </p:blipFill>
        <p:spPr>
          <a:xfrm>
            <a:off x="839880" y="4146480"/>
            <a:ext cx="3198600" cy="24829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41452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102j1b" descr=""/>
          <p:cNvPicPr/>
          <p:nvPr/>
        </p:nvPicPr>
        <p:blipFill>
          <a:blip r:embed="rId2"/>
          <a:srcRect l="0" t="0" r="0" b="10348"/>
          <a:stretch/>
        </p:blipFill>
        <p:spPr>
          <a:xfrm>
            <a:off x="4371840" y="4038480"/>
            <a:ext cx="4314960" cy="221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14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1J1B" descr=""/>
          <p:cNvPicPr/>
          <p:nvPr/>
        </p:nvPicPr>
        <p:blipFill>
          <a:blip r:embed="rId3"/>
          <a:srcRect l="0" t="0" r="0" b="8038"/>
          <a:stretch/>
        </p:blipFill>
        <p:spPr>
          <a:xfrm>
            <a:off x="4343400" y="1371600"/>
            <a:ext cx="4314960" cy="2219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4098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zj1b" descr=""/>
          <p:cNvPicPr/>
          <p:nvPr/>
        </p:nvPicPr>
        <p:blipFill>
          <a:blip r:embed="rId4"/>
          <a:srcRect l="0" t="0" r="50731" b="50382"/>
          <a:stretch/>
        </p:blipFill>
        <p:spPr>
          <a:xfrm>
            <a:off x="762120" y="1268280"/>
            <a:ext cx="319860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7A2-F078-4C7B-A4B1-2252239512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velament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alescê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9097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ecag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T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lescência: interdifusão de cadeias poliméricas (energia tér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elamento: rearranjo das cadeias poliméricas no interior das partículas (tensão superficial polímero/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usão de cadeias durante o nivelamento é quatro ordens de magnitude maior que a difusão de cadeias durante a coalescênci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.C. Goh, D. Juhúe, O.M. Leung, Y. Wang, M.A. Winnik, Langmuir 1993, 9, 1319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4570200" cy="359244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838080" y="4191120"/>
            <a:ext cx="3353040" cy="459720"/>
            <a:chOff x="838080" y="4191120"/>
            <a:chExt cx="3353040" cy="459720"/>
          </a:xfrm>
        </p:grpSpPr>
        <p:sp>
          <p:nvSpPr>
            <p:cNvPr id="607" name=""/>
            <p:cNvSpPr/>
            <p:nvPr/>
          </p:nvSpPr>
          <p:spPr>
            <a:xfrm>
              <a:off x="909360" y="419112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M versus D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4191120"/>
              <a:ext cx="3353040" cy="457200"/>
            </a:xfrm>
            <a:custGeom>
              <a:avLst/>
              <a:gdLst>
                <a:gd name="textAreaLeft" fmla="*/ 0 w 3353040"/>
                <a:gd name="textAreaRight" fmla="*/ 3353400 w 3353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33520" y="5638680"/>
            <a:ext cx="32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Perez and 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La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lattening of Latex Film Surface and Polymer Cha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16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874</a:t>
            </a:r>
            <a:r>
              <a:rPr b="0" lang="pt-BR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8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C07-4F45-4009-A1BA-B9A8E48068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287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feit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Recozimento e Envelhec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71640" y="1079640"/>
            <a:ext cx="720072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vel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nuição da rugo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aparecimento dos contornos das partíc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18026" t="1081" r="15303" b="72353"/>
          <a:stretch/>
        </p:blipFill>
        <p:spPr>
          <a:xfrm>
            <a:off x="1144440" y="2589120"/>
            <a:ext cx="2741760" cy="91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28600" y="63403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Perez and 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La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lattening of Latex Film Surface and Polymer Cha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16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874</a:t>
            </a:r>
            <a:r>
              <a:rPr b="0" lang="pt-BR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8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rcRect l="18026" t="32593" r="15303" b="40979"/>
          <a:stretch/>
        </p:blipFill>
        <p:spPr>
          <a:xfrm>
            <a:off x="1143000" y="3736800"/>
            <a:ext cx="2741760" cy="9115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rcRect l="18026" t="64101" r="15303" b="9466"/>
          <a:stretch/>
        </p:blipFill>
        <p:spPr>
          <a:xfrm>
            <a:off x="1143000" y="4876920"/>
            <a:ext cx="2741760" cy="9111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904120" y="342900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átex PBMA ( poli(butilmetacrilato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193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2326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33720" y="2008080"/>
            <a:ext cx="8380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2796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1981080"/>
            <a:ext cx="129528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dias e 19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80680" y="4572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átex PBMA reticul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" y="58672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átex do tipo casca-caroço PBMA-PBMA com caroço reticu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4"/>
          <a:srcRect l="0" t="4348" r="0" b="70972"/>
          <a:stretch/>
        </p:blipFill>
        <p:spPr>
          <a:xfrm>
            <a:off x="3887640" y="2614680"/>
            <a:ext cx="4570560" cy="8143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rcRect l="0" t="39136" r="0" b="37746"/>
          <a:stretch/>
        </p:blipFill>
        <p:spPr>
          <a:xfrm>
            <a:off x="3887640" y="3884760"/>
            <a:ext cx="4570560" cy="7635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rcRect l="0" t="70972" r="0" b="5739"/>
          <a:stretch/>
        </p:blipFill>
        <p:spPr>
          <a:xfrm>
            <a:off x="3887640" y="5022720"/>
            <a:ext cx="4570560" cy="7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5D1-31A2-44C3-B116-EBB3E97AE9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vaporação de ág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Dutch801BT-Roman"/>
              </a:rPr>
              <a:t>P.A. Steward, J. Hearn, M.C. Wilkinson, An overview of polymer latex fi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Dutch801BT-Roman"/>
              </a:rPr>
              <a:t>formation and properties, Advances in Colloid and Interface Science</a:t>
            </a:r>
            <a:r>
              <a:rPr b="0" lang="pt-BR" sz="1400" spc="-1" strike="noStrike">
                <a:solidFill>
                  <a:srgbClr val="000000"/>
                </a:solidFill>
                <a:latin typeface="SizedSym151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Dutch801BT-Roman"/>
              </a:rPr>
              <a:t>86 2000 19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524560" cy="366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D02-1DCF-4642-8396-BFDA749E6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Fatores que afetam a 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dições ambientais: 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temperatur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ísticas das partículas: 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composição química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morfologia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m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itivos: 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surfactantes, coalescentes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ig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8FF-578A-4413-A125-88D32B0AD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ito da temperatura na 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5105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920" y="3657600"/>
            <a:ext cx="75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FF: temperatura mínima de formação de filme de lát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15520" cy="2095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741760" cy="2041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33920" y="4343400"/>
            <a:ext cx="4359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a mínima para se formar filmes de látexes transparentes e coesos é chamada de TMFF (temperatura mínima de formação de filme de lá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ábricas de látexes monitoram efeitos da composição química e tamanho de partículas através de medidas TM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9120" y="631044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arelho de medida TM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B63-941B-4E1F-81BD-F4CC000F6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ito da temperatura na 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9880" y="571500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: temperatura de transição vít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 pode ser estimada considerando a composição do copolímero através da equação de FOX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x, T.G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l. Am. Phys. So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, 123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19320" y="1449360"/>
            <a:ext cx="5543280" cy="4113360"/>
            <a:chOff x="1219320" y="1449360"/>
            <a:chExt cx="5543280" cy="41133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219320" y="1449360"/>
              <a:ext cx="554328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876920" y="1890720"/>
              <a:ext cx="149832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Estágio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312408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Estágio 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&gt;TM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86280" y="4114800"/>
              <a:ext cx="1285920" cy="56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Estágio I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&gt;T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55640" y="5194440"/>
            <a:ext cx="2901960" cy="749160"/>
          </a:xfrm>
          <a:prstGeom prst="borderCallout1">
            <a:avLst>
              <a:gd name="adj1" fmla="val 18750"/>
              <a:gd name="adj2" fmla="val -8333"/>
              <a:gd name="adj3" fmla="val -79449"/>
              <a:gd name="adj4" fmla="val 449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lme transparente e co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4317840"/>
            <a:ext cx="160020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ilme com resistência mecânica ele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51055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310-C544-4E72-86A6-55353E8B9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erença entre Tg e TMFF: efeito da composição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ículas uniformes e hidrof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~TMFF (deformação e coalescência ocorrem simultaneam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ículas contendo copolímeros hidrofí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&gt;TMFF (plasticização pela á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23880" y="2971800"/>
            <a:ext cx="5867640" cy="990720"/>
            <a:chOff x="1523880" y="2971800"/>
            <a:chExt cx="5867640" cy="990720"/>
          </a:xfrm>
        </p:grpSpPr>
        <p:grpSp>
          <p:nvGrpSpPr>
            <p:cNvPr id="81" name=""/>
            <p:cNvGrpSpPr/>
            <p:nvPr/>
          </p:nvGrpSpPr>
          <p:grpSpPr>
            <a:xfrm>
              <a:off x="1523880" y="2971800"/>
              <a:ext cx="1828800" cy="914400"/>
              <a:chOff x="1523880" y="2971800"/>
              <a:chExt cx="182880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1523880" y="297180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8280" y="297180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562720" y="3048120"/>
              <a:ext cx="1828800" cy="914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39960" y="302112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orm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1280" y="3554280"/>
              <a:ext cx="14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alesc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85800" y="5168880"/>
            <a:ext cx="8001000" cy="1085760"/>
            <a:chOff x="685800" y="5168880"/>
            <a:chExt cx="8001000" cy="1085760"/>
          </a:xfrm>
        </p:grpSpPr>
        <p:grpSp>
          <p:nvGrpSpPr>
            <p:cNvPr id="89" name=""/>
            <p:cNvGrpSpPr/>
            <p:nvPr/>
          </p:nvGrpSpPr>
          <p:grpSpPr>
            <a:xfrm>
              <a:off x="685800" y="5245200"/>
              <a:ext cx="1828440" cy="927000"/>
              <a:chOff x="685800" y="5245200"/>
              <a:chExt cx="1828440" cy="927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685800" y="5245200"/>
                <a:ext cx="927000" cy="927000"/>
                <a:chOff x="685800" y="5245200"/>
                <a:chExt cx="927000" cy="9270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840240" y="5399640"/>
                  <a:ext cx="617760" cy="617760"/>
                </a:xfrm>
                <a:prstGeom prst="ellips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85800" y="5245200"/>
                  <a:ext cx="927000" cy="92700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587240" y="5245200"/>
                <a:ext cx="927000" cy="927000"/>
                <a:chOff x="1587240" y="5245200"/>
                <a:chExt cx="927000" cy="9270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41680" y="5399640"/>
                  <a:ext cx="617760" cy="617760"/>
                </a:xfrm>
                <a:prstGeom prst="ellipse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587240" y="5245200"/>
                  <a:ext cx="927000" cy="927000"/>
                </a:xfrm>
                <a:prstGeom prst="ellips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3879720" y="5315400"/>
              <a:ext cx="1840320" cy="939240"/>
              <a:chOff x="3879720" y="5315400"/>
              <a:chExt cx="1840320" cy="93924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3879720" y="5315400"/>
                <a:ext cx="938880" cy="939240"/>
                <a:chOff x="3879720" y="5315400"/>
                <a:chExt cx="938880" cy="939240"/>
              </a:xfrm>
            </p:grpSpPr>
            <p:sp>
              <p:nvSpPr>
                <p:cNvPr id="98" name=""/>
                <p:cNvSpPr/>
                <p:nvPr/>
              </p:nvSpPr>
              <p:spPr>
                <a:xfrm rot="5356200">
                  <a:off x="4039200" y="5475600"/>
                  <a:ext cx="618120" cy="617760"/>
                </a:xfrm>
                <a:prstGeom prst="hexagon">
                  <a:avLst>
                    <a:gd name="adj" fmla="val 25015"/>
                    <a:gd name="vf" fmla="val 11547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5356200">
                  <a:off x="3885480" y="5321160"/>
                  <a:ext cx="927360" cy="927000"/>
                </a:xfrm>
                <a:prstGeom prst="hexagon">
                  <a:avLst>
                    <a:gd name="adj" fmla="val 25010"/>
                    <a:gd name="vf" fmla="val 115470"/>
                  </a:avLst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781160" y="5315400"/>
                <a:ext cx="938880" cy="939240"/>
                <a:chOff x="4781160" y="5315400"/>
                <a:chExt cx="938880" cy="939240"/>
              </a:xfrm>
            </p:grpSpPr>
            <p:sp>
              <p:nvSpPr>
                <p:cNvPr id="101" name=""/>
                <p:cNvSpPr/>
                <p:nvPr/>
              </p:nvSpPr>
              <p:spPr>
                <a:xfrm rot="5356200">
                  <a:off x="4940640" y="5475600"/>
                  <a:ext cx="618120" cy="617760"/>
                </a:xfrm>
                <a:prstGeom prst="hexagon">
                  <a:avLst>
                    <a:gd name="adj" fmla="val 25015"/>
                    <a:gd name="vf" fmla="val 11547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356200">
                  <a:off x="4786920" y="5321160"/>
                  <a:ext cx="927360" cy="927000"/>
                </a:xfrm>
                <a:prstGeom prst="hexagon">
                  <a:avLst>
                    <a:gd name="adj" fmla="val 25010"/>
                    <a:gd name="vf" fmla="val 115470"/>
                  </a:avLst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2590920" y="5702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2800" y="5305320"/>
              <a:ext cx="138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orm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1320" y="5778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320" y="5335560"/>
              <a:ext cx="15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alescê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5168880"/>
              <a:ext cx="1523880" cy="9907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58600" y="5699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7600" y="5775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85440" y="60199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240" y="61722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asca 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15000"/>
            <a:ext cx="457200" cy="68580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1960" y="6262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Times New Roman"/>
              </a:rPr>
              <a:t>caroço m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6FF-01A8-428B-84D6-77E539FB1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ito da temperatura na formação de filme de lát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68671"/>
          <a:stretch/>
        </p:blipFill>
        <p:spPr>
          <a:xfrm>
            <a:off x="533520" y="3770280"/>
            <a:ext cx="5484600" cy="1955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0" b="49914"/>
          <a:stretch/>
        </p:blipFill>
        <p:spPr>
          <a:xfrm>
            <a:off x="380880" y="1676520"/>
            <a:ext cx="5484960" cy="2133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J. Keslarek, C. A. R. Costa, 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ernando Galembeck*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lectric Charge Clustering and Migration in Latex Films:A Study by Scanning Electric Potential Microscop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angmuir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001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17,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886</a:t>
            </a:r>
            <a:r>
              <a:rPr b="0" lang="en-GB" sz="1400" spc="-1" strike="noStrike">
                <a:solidFill>
                  <a:srgbClr val="000000"/>
                </a:solidFill>
                <a:latin typeface="ChemBats2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89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4800" y="21337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e seco 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0560" y="4191120"/>
            <a:ext cx="26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e seco 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zido 9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7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7B7-BC70-46BB-9B1A-E68B5BCD1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8:51:45Z</dcterms:created>
  <dc:creator>Morfo9</dc:creator>
  <dc:description/>
  <dc:language>en-US</dc:language>
  <cp:lastModifiedBy>Morfo9</cp:lastModifiedBy>
  <dcterms:modified xsi:type="dcterms:W3CDTF">2004-11-22T11:22:40Z</dcterms:modified>
  <cp:revision>31</cp:revision>
  <dc:subject/>
  <dc:title>Formação de Filme de Látexes</dc:title>
</cp:coreProperties>
</file>